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1.png" ContentType="image/png"/>
  <Override PartName="/ppt/media/image12.pct" ContentType="image/x-pict"/>
  <Override PartName="/ppt/media/image6.pct" ContentType="image/x-pict"/>
  <Override PartName="/ppt/media/image15.jpeg" ContentType="image/jpeg"/>
  <Override PartName="/ppt/media/image27.jpeg" ContentType="image/jpeg"/>
  <Override PartName="/ppt/media/image8.pct" ContentType="image/x-pict"/>
  <Override PartName="/ppt/media/image3.pct" ContentType="image/x-pict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4.pct" ContentType="image/x-pict"/>
  <Override PartName="/ppt/media/image2.pct" ContentType="image/x-pict"/>
  <Override PartName="/ppt/media/image1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7.pct" ContentType="image/x-pict"/>
  <Override PartName="/ppt/media/image19.png" ContentType="image/png"/>
  <Override PartName="/ppt/media/image21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66BC-5869-44C2-B466-E80582B1B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kins was passed in August 2006 for a 6 year period –FY2012.  States have three years in which to implement a program of study in districts receiving Perkins doll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14A1-A39D-4CCD-8147-6F2FBF829C0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district may select an area other than FCS in which to create a program of study but that does not mean that it is not something you should ignore. You need to be at the table.  You can lead the way by creating a program a study within your department and most likely you offer a course in your program that will support other programs of study.  Programs of study just make good s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1619-E088-4605-AF2C-BBFD43C65C6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s then? 1909 or what year? How does life expectancy tie into what FCS has accomplis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A953-BAEE-45B2-8436-41D68993894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042C-BA70-4279-A978-CC820264D2A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define Program of Study?  Perkins requires that districts offer students Programs of Study that   1. include coherent &amp; rigorous CTE content aligned with challenging academic standards  2.  provide students the opportunity to participate in dual or concurrent enrollment programs or other ways to acquire postsecondary credits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Lead to an industry recognized credent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end of year to end of program assessments.  Students who have completed 3 credits in a sequence will be the ones required to take the t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6532-684C-4004-A6C9-8E7226CD928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B73-3BA4-4767-A5A5-80935EE6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2DC-CA9C-429A-82FB-DFEF1312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A5C-5D4D-422D-8CD0-31F34F85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60C-2495-4306-8324-9BB84BB7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FBFC-04AA-4C97-81F2-E1953FB5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B492-74A8-44EE-A17C-749736E4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7B2F-C402-42E2-A75C-1926FD1A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440A-306D-4335-A726-99AF6947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B6AC-7705-42AB-B4D6-36FA020C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AF28-E463-43CE-93F3-14A75822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861F-520E-408F-95A7-4D7564A3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90B5-0D4C-4E99-991F-B35736A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28F0-E39A-4116-AD46-97442E5D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BADE-DE37-435B-9073-525F8D0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143D-5FD8-4C5A-8EC6-15746558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77A6-45A4-4EE3-A540-6DED8950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D4D9-504D-41E6-B550-1638A935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478D-D1F2-4092-8D2B-7A757F63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3BF2-4565-41D0-8B5B-B316DFDE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47A4-AEFC-4B95-A8A6-E6E45B43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2396-B81D-4316-814E-5C9E5B94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8584A-A506-4A31-8A84-C876ACF6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BE5-B689-4EDD-B9EC-81AA9DCE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F47E-840A-4059-963A-042639F6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3994-9AA8-4476-B32E-CB1BF9F6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59E6-3305-4E71-955F-5C6587F5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581A-5AF2-4E39-8A51-2F0F743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4B60-D86A-41E3-94EF-917F1CB0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9101-D683-4876-9F38-B37B7E27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03F3-9D94-46DE-BCD6-B09C7C02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098-1902-498C-840E-D9FF4563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8E9-2D8D-447E-BA70-3D74FB59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DBF-E8D0-441E-AF70-CAD03976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359-9AB6-4EF2-AEA9-51003DA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E0A-5536-40FB-9165-55D42631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5A6-397B-455E-A34B-9F3CDC9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Group 19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13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Picture 12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6392-8FF1-4109-8FD9-4095824F0B99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591-453E-40AD-AD13-FE3A4C95A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3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94" name="Group 22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95" name="Freeform 3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6" name="Freeform 4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7" name="Freeform 5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8" name="Freeform 6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9" name="Freeform 8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0" name="Freeform 9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3" name="Freeform 19"/>
              <p:cNvSpPr/>
              <p:nvPr/>
            </p:nvSpPr>
            <p:spPr>
              <a:xfrm rot="16200000">
                <a:off x="3977280" y="-853200"/>
                <a:ext cx="1722600" cy="34290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4" name="Picture 7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6800-8BE6-4264-9A68-0EB483EDF387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ing-to-lead.org/userimages/leadership(1).jpg&amp;imgrefurl=http://fatihtepe.com/&amp;h=316&amp;w=448&amp;sz=60&amp;hl=en&amp;start=3&amp;um=1&amp;tbnid=ne0Qwx0-w9pSyM:&amp;tbnh=90&amp;tbnw=127&amp;prev=/images%3Fq%3Dleadership%26um%3D1%26hl%3Den%26rls%3Dcom.microsoft:en-us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www.marloscrochetcorner.com/images/10-4%20cm%20felt%20bag.jpg&amp;imgrefurl=http://www.marloscrochetcorner.com/patterns%20for%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com/imgres?imgurl=http://www.clowncostumes.com/images/Prop%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ynchronize Your Gear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7" name="Picture 4" descr="MCj02853980000[1]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4" descr="taglinelogobw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3" name="Picture 4" descr="ages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3KX8CAO1DRGHCA65ZR4ECA6NNZJBCAPF6DPJCAID6VGGCAVSPFNQCATCUPW5CANK0UI6CAPPUXC0CA83NXNTCAYBVN19CAWRPZ4FCAUL1BR8CAQFL40ECA460HRHCAPLJJ2ZCAJWT2K6CAJN9APOCAV2XA96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7" name="Picture 4" descr="MCj02379820000[1]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9" name="Picture 6" descr="KA22JCAYULATOCAJ9Y5QVCAXQO69NCA127KQGCAXFX2U9CAQA24O8CAM50AJDCA2P8R81CAMG58MPCAT0ORYACA651NGDCAAB7JI3CAJ8LBYYCA3Z11VOCA2AQR1NCA3KYJAJCAUF809PCA5UBS87CA5SVI35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t_louis-arch-sky_bl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DPI7JCADLX7EWCAL2NOD2CA2EKG8KCARBIC7YCAURL5YICABW5MOJCA1YJ7MQCADRR6HNCAKFZ2FZCAZG41K7CA1WRN5OCA43D3OECA7889OXCAEPTWIXCAILUET6CAS8CQ69CAGBRITLCAO03D32CAH132TI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VQ156CA09EYTJCA0UB7N5CAJYZ1Q0CACYQ0KDCAYEZT4QCANJSCUHCAB8ZC2PCAO64N32CAGXU9MWCA6IH695CAK2YOH0CAKGSTBUCANGSPB6CAIPINF3CAMG0UNGCARKEJEBCAPQ99NTCAFQOSTTCAHT5ZJB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5" name="Picture 4" descr="bd04996_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8" name="Picture 4" descr="MCj04315260000[1]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4315260000[1]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20" name="Picture 8" descr="RIWRHCAFJF3Z1CARSCU7HCATVDOL7CA5B49H0CASH1CV8CAM37U0XCA1RC9XFCA3S3O5MCAGSU2ARCAQCNIRRCAUPCPSCCAVMMXT2CAQ2CUQSCAG14RI1CA42CGX5CAJXRJOECALH64IOCAZAR1XWCAFW0UNK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7" name="Picture 4" descr="MCj02313910000[1]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levator Speech / 30 Second Speech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omponents of Work &amp; Family Lif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Relationship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uman Develop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ealth &amp; Wellne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ancial Competen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dership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blem Solv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addition, an integral part of the Family and Consumer Sciences curriculum is the student organization Family, Career &amp; Community Leaders of Americ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rning leadership skills through FCCLA.</a:t>
            </a: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eadership Skill Development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re Leadership Skills Component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student benefits of leadership skill developm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community/school benefits of leadership skills development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e sure to attend the leadership skill module as we have new specific leadership skills that need to be taught and assessed. </a:t>
            </a: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istory &amp; Rationale for Change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reasons for the chang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ederal, State, and Perkins legislation is driving these change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ocietal changes drives curriculum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abor market data drives what is being taught and offered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ture will be family focused, career focused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ncrease rigor, relevance, and relationship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5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mproves Family and Consumer Sciences programs to prepare students for a viable 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Programs of Study Models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- THE FINAL LINK -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put together all of the training pieces you’ve learned at the different training module workshops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ow the components of the program of study will work for students in the community where you teach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aking a seamless educational program offering your students more opportunities. 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elping students link current coursework with possible career pathway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3" name="Picture 5" descr="FamilyFrontPage3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6" name="Picture 6" descr="NowWhat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8" name="Picture 5" descr="leadership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1" name="Picture 5" descr="b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mall-boombox-b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10-4%2520cm%2520felt%2520b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bag-manufacturer-u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Prop%2520Ba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polka-dot-diaper-bag"/>
          <p:cNvPicPr/>
          <p:nvPr/>
        </p:nvPicPr>
        <p:blipFill>
          <a:blip r:embed="rId11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9" name="Picture 4" descr="MCj02379820000[1]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together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working%2520together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533520"/>
            <a:ext cx="8305920" cy="74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00" spc="-1" strike="noStrike">
                <a:solidFill>
                  <a:srgbClr val="eaeaea"/>
                </a:solidFill>
                <a:latin typeface="Arial Narrow"/>
              </a:rPr>
              <a:t>Activity</a:t>
            </a:r>
            <a:r>
              <a:rPr b="0" lang="en-US" sz="12100" spc="-1" strike="noStrike">
                <a:solidFill>
                  <a:srgbClr val="eaeaea"/>
                </a:solidFill>
                <a:latin typeface="Arial Narrow"/>
              </a:rPr>
              <a:t>: </a:t>
            </a: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eaeaea"/>
                </a:solidFill>
                <a:latin typeface="Arial Narrow"/>
              </a:rPr>
              <a:t>What Gear are you in???</a:t>
            </a: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4"/>
          <p:cNvGraphicFramePr/>
          <p:nvPr/>
        </p:nvGraphicFramePr>
        <p:xfrm>
          <a:off x="0" y="177840"/>
          <a:ext cx="9144000" cy="65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840"/>
                    <a:ext cx="9144000" cy="65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7" name="Picture 6" descr="j0329925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program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1" name="Picture 6" descr="images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4" name="Picture 4" descr="MCj03326800000[1]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4"/>
          <p:cNvGraphicFramePr/>
          <p:nvPr/>
        </p:nvGraphicFramePr>
        <p:xfrm>
          <a:off x="1922400" y="0"/>
          <a:ext cx="51246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0"/>
                    <a:ext cx="512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Line 5"/>
          <p:cNvSpPr/>
          <p:nvPr/>
        </p:nvSpPr>
        <p:spPr>
          <a:xfrm flipV="1">
            <a:off x="5410080" y="2209680"/>
            <a:ext cx="228600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6248520" y="761760"/>
            <a:ext cx="160020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Kelley Ritter User</cp:lastModifiedBy>
  <cp:lastPrinted>2009-04-22T19:24:48Z</cp:lastPrinted>
  <dcterms:modified xsi:type="dcterms:W3CDTF">2008-10-27T16:48:23Z</dcterms:modified>
  <cp:revision>1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